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F47-0411-4C53-845E-A93C6449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2A7-75E4-4AC7-8E6A-40CE067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EBB-1FDE-40C8-8F07-DD5D4BF0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DD9-E531-44B9-977C-60212471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24A7-C9C2-45FA-9335-25B6E0E3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A4F0-0FD3-4524-A89D-E7B379A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2F96-FED0-4ECC-9DDA-E3BC58E5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FB1F-04B1-4756-B1A4-95620D7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3EC-09BD-48A5-9296-C8D1B6FD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8B83-4E36-4C3A-A6B1-79F68D91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F9CD-9C9F-4DDE-8553-7DD314C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BC6-066A-4688-8D94-EFB771B0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7C01-C5DC-4932-BFAF-1489D5E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2CD9-660F-4127-AA78-8D9C989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7E94-8269-48AC-8E0E-D685C590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C8A-7948-496C-A55C-58A53987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7FB0-0162-4769-9335-BA7A96B4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28F-5D85-41C5-A2B0-30D3BC70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504-365E-4890-B4C2-292C5EB7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EBC-687C-462D-A917-B2A64E0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F59-EB56-4A8C-B102-4F3AB306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D42-C2F7-4BCB-8964-0A90596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C0D-6B2B-4CEA-8320-2EA4AA1A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AB4-A70F-44EA-866D-2002268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723-3076-4C00-AE04-113BF488EFE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CFE-3A0E-4C2F-9E3B-64FE16BF2C1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rge:immense::________:_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narch:Kingdom::President: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Practice 1-fill in the blank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f course you have the right to ask the waiter for a glass of water, but there is no need to use the tone of a ________ chil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feel that, as an old friend, I have the ___________ of telling you it is a mistak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e read the newspaper article of our friends attack, there were several paragraphs of ____________ detail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like the salespeople in that store because they do their jobs without making a big show of ___________ behavior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certainly appreciate your praise, but I see nothing ___________ in having done what anyone could do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cused Freewri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 minu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you rather live to be 105 but have a normal, ordinary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 famous, but only live to 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. 11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did Mrs. Dubose say about Atticu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was Jem’s reaction? Did he do the right thing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was he punished?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does he learn from this punish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Miss Maudie and Mrs Dubose, what qualities do they share and how are they differ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. 1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id Cal take extra care going over the children’s clothes before taking them to her churc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t the church the kids discovered that Cal spoke one way to her black friends at church and another way when she worked at the Finch’s. How did she explain thi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aren’t there any hymn books at Cal’s church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o is waiting on the front steps of the Finch house when they return from church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won’t Scout be able to see Dill this summ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mbol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ider Mrs. Dubose’s camellias and how they grew back after Jem mutilated them. What symbolic effect could the author be trying to portra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riting activi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1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4:26:47Z</dcterms:created>
  <dc:creator>Angie</dc:creator>
  <dc:description/>
  <dc:language>en-US</dc:language>
  <cp:lastModifiedBy>rebecca</cp:lastModifiedBy>
  <dcterms:modified xsi:type="dcterms:W3CDTF">2009-02-10T16:11:08Z</dcterms:modified>
  <cp:revision>3</cp:revision>
  <dc:subject/>
  <dc:title>DOA</dc:title>
</cp:coreProperties>
</file>